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6.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D84E-CB28-48D9-95B3-2B4993FD0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4CEC-18D0-4558-A765-FACE38111D5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9773-887B-4A3A-AE24-571F2254CB1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F256-0FF6-4B6E-89CB-B1AC78AC72E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213B-978D-4E83-8019-7FEA479AF2B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342A-15E3-45CA-A98C-7C20D5799E2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39A3-3C1E-44FD-99AE-E5C86AEA77C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C183-C178-45CF-B790-0A05B21EBCE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C5BC-25B3-4619-8D69-762332AF41F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4319-2330-4D39-B310-CB8500AB192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70FB-E689-4818-95D5-1D33764BF05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ED73A-F4F6-41EF-A762-A3038B253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C8BD5-9BE4-40C1-899B-92F53809C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769DB0-CDA2-401C-AFA6-B813899179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31BFC1-9A2C-4EF9-A404-9D45FE6CCA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DBB7C0-102C-47CF-BF60-2DE4DACFDE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DDC283-00D1-41CB-971D-9F1139DFAB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EBD0C3-2804-4FBC-B3EF-13007E6A1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5F2F7C-681D-4E9A-B9EF-3C9C9F60A5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32B518-7E73-4148-BC57-915FB78BB9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6EE401-51A8-4625-AA1F-D35A9FC286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2BE3D3-6535-4ED9-AE54-02941CE5D3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AA6280-BF78-478A-A1F3-8C660C4A41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861EE-77FF-4275-ACEB-D9B374935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BD1FB8-0119-42A0-9ABD-93720280F6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BB5B13-3D84-4BC9-8382-623E930AEA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8D7616-A076-441A-A013-053BC30474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C131CD-2268-4859-9995-104598E992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8041F3-B49D-43B8-8AD8-B9E105C045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172B17-CB9F-4BF2-99D0-61C47F53B8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1575CA-5748-4F82-891B-3C9BEC657E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817272-7D82-44D0-B167-EE92DC1C88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1D58DF-236D-49A6-AD01-D957C966BE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5EEF82-B6FF-47B3-B4D9-4925B6033E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BDD34-D404-4C62-8577-87665679B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1B6FDB-4191-434C-A6F5-F0EB9DA1BD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B9C7C3B-1AB0-4927-88C4-AA0127CA99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460FA5-CC81-47B0-A3E2-162FC0C7EC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C8955E-D09B-40E3-9D87-30E0CFDC96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7395E8-F342-45D1-9B22-77CBDCE038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A492FD-3D36-41BF-B544-334438F09E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B029A5-C366-4045-8FBE-9AE9BFA91F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E905BD-2679-4A10-8337-49F296BD0C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5E117A-F85C-4AE3-A953-67DD54D642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89BDC5-8E5B-4658-8514-AF78FBDE92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D1C34-29DE-441A-B8CE-31C5FBBB0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9CA850-901E-40C5-85DD-0D685094EB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68BA9A-A8FE-41F8-8C98-9A22AB87DB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E4118D-1A29-4F2D-B710-D3515C89504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62FBF4-B119-4D93-AD48-56A137B12B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7B1FAE-B506-4DDE-8476-42AECF6489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43ED72-CF7F-4768-902C-A1CAD91B85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462FFB-F423-4AA5-AAE9-B5E572BCBF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3F4E6B-6863-48C8-85AE-DBC872DE91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30EAD9-1526-41E4-AFBE-D324821788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E31F68-5191-4F82-84BA-CFB4F3B386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1D421-4D59-4CA1-B5C4-D4FC54E4F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D054A4-3685-49B1-92C1-C4AEF44EFE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3FF12B-FBF1-43AB-A642-2978048CA0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1C0699-234F-4713-ABA3-DEB88B350B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2632E2-0D6B-41CD-BD59-2AC609B02B4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539063-C532-4867-AA2A-3511B311C34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94D10-172C-4DCA-AEE8-9EF2FA5B9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6B23A-6C18-4D2E-B5B8-A9231E9EF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9337D-4DC4-41FF-9840-592093F7E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050F1-CC7E-40FB-888F-5C5A5DF5B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73C7A-A222-4748-B419-9767CD5FC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53070-40B8-45CF-9CCB-D0607581B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020C5-0628-43A1-824E-0BCF2F46B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1D299-0906-4E1A-B53B-98DAF91DA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10519-4DB9-45AF-AD74-602AC8B02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0D8C9-1FF6-4BA0-AD97-27168E70B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CFD72-F815-435E-ADC8-9C0253FA6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D018A5-7911-4E18-9F6E-0D70273D9E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5888B-F45C-46D1-8FB6-881D51FD4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3BC74D-EAB3-447E-B224-6741407E4A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0C126-7F0E-4C9F-91F1-378AD0CE2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84F4C0-CD9E-48BC-B8D4-7C338E8B85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FE869-F470-4160-BFC8-B5230FD3A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F9B478-926D-4825-B9F3-F1BB5ADE0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2C776-430B-49FE-9857-9D01FFE6F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A05BE-82E1-49E2-89FB-F3CFEA2640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62145-7554-435C-8129-3A8D6524C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7AC9A-3F06-4365-BB4F-79956D0B5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48521B-2AB5-4AB7-BAF5-2A69E1E587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4FFFBD-55F8-4397-B11B-B64C04F901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79ED49-7E9F-4853-85FC-CD670093C0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28674F-C97A-411E-836B-E49F560FF7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86B2E1-76BD-46EF-80B0-CC1B0900A2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9F69A-B642-4001-9A5C-1BF4A096E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1F9F87-29D0-4259-B35D-2BF1BF4F13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1FB9D-7C70-47E9-976D-5E737F33E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49F1CC-0CE9-4CBD-AE51-5F4AD3A26E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6D7AF5-C47C-4755-90DB-D77F9A1BE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31A24-3333-45A6-B347-5BC598D00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9B543-227D-4974-AB43-087BCF0D7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4AE485-7DBF-48A0-8D01-D88D73F30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5AAD11-3543-4A23-BA95-7DC3FB586A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620A92-8502-4B1B-B12D-D8B79D7705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68FFD9-EFFE-487A-BBF6-47C01CBF00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AD6B5-5A4D-4176-9E09-02270EC63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01C998-E2B1-4873-B17F-E5C09975D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470DEC-983B-4A75-AE01-902A8DF129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3B294-5AE2-448D-A31D-8BAF73C42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5E9071-75BA-4D2F-B2A8-ECBEA52724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3DA57-7FCB-4D77-A0B8-70BB3C740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C4240-DE42-4B50-8CA7-AD08265FE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162A85-A2BC-4B89-B4D3-840B2164A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0AA421-93CA-47C7-942A-D6321EAE76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1C9993-0685-426C-9E69-75C8E92BA3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D7DFE5-8C20-4AB3-BD38-067DE49445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0112B-CC25-4B55-A836-DF44729F2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B7E07C-AF85-4272-B4C4-78B3282180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10DDDC-94D6-4D8B-B26A-DEA9796A01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CA123C-711E-4FFE-BD8F-E3B614571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121A9B-E09C-4FF3-BCEA-EEA62E01B1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167DBF-CCEC-4954-AB3B-C233AA0DAC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E5928D-A2CE-4F57-A2E7-623E3475D4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84B6E0-A3CB-46B6-BA63-E9BC74FD81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2FF4B-47FA-42BA-8328-ED0CEB9243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7FE1C-FF83-4C9A-95B2-ECDADFC594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04FDAA-FA6C-4992-9AB2-C935D1050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3104-BDB5-4C3E-8382-FEEA5DA24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8FE3AC-A44F-43E1-81C3-1E9B41956C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D7CA2E-DDED-4EB8-9267-35D8FE0A4E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74BCF4-FA3B-4FE3-82D1-EDFDD58EF6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B75285-1220-4A25-B4AA-9FEC7AB23B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3A1049-FE58-4771-BC92-A853222F1E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946183-000D-4978-B335-FD31FB26B9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7F0C1F-1752-40BD-A08B-4F788545D5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983958-B676-4935-B2AC-F7F75AAEFA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730DD0-01D1-46D5-8C82-8D0696F59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46EC5-00C3-4617-A00F-567421EED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2CFFF-5737-42D5-8403-60282C014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EA36F4-F2F3-40C2-B0EC-E35C8D164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49202-3DC9-472B-9286-D21E668F88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4115CC-9F62-4F88-944C-419D399F7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2D6CBC-617B-4F0E-A4B5-6A2477A98B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7455D5-F3A2-47A1-9507-DBD2F7BD70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65D942-B5DD-49CF-907C-95210AAE04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35193-246D-427F-82B1-C8E848D9D0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55E6AB-745C-45E2-A639-0EC7A614F0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ACD4F7-18BD-4668-A21D-0DD337E95E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6D3889-D060-42D6-8AD3-ACF129A220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7EA43-817F-43DE-8B3C-12B1B71B9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AAC5E7-E797-4A2F-8446-42078114C7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523609-A911-4D2E-BBFE-B8AF6C3864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D6A5BE-488E-486D-A301-CEC25F0B9A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711231-2B3B-4BF5-B8BB-91640D51B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2FAB2B-1151-47B4-BCA9-9DBC6A4159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80C35F-DFAA-4271-955B-A9BB53134E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5B7DA6-91CE-408F-A33C-F874AC2FFE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E0E108-B181-4DD7-89A6-BCFF7B2940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72BD35-D031-4D6B-9176-5497AB4CC8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DBBFB-84C0-40E9-A8DB-5CD8BFD8DE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7450-F22B-42B1-A58D-B0F797AE99C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012F-8A51-464C-86C0-1F29429097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6493-D7DA-4F12-8F17-C7A0AF54E20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C9E9-66A8-4BC6-98AB-921F0316138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1AA6-340E-4784-A369-251D6C4552F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844C-32E6-4FAC-ACA8-A309509777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05F8-08EF-4B58-8DD9-BCC261B5650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D951-1EA8-4B0B-9A17-81917EF5ED5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F329-CDE6-4D45-98CA-B05A63A54AB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8998-DF5D-419D-B422-87C471B8A65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281A-94C2-4BCF-B470-4C33B03FBD9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4660-3E5F-456E-8FAB-2054A35F37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racters you now know:  </a:t>
            </a:r>
            <a:r>
              <a:rPr b="0" lang="zh-CN" sz="4000" spc="-1" strike="noStrike">
                <a:solidFill>
                  <a:srgbClr val="ffffff"/>
                </a:solidFill>
                <a:latin typeface="Calibri"/>
                <a:ea typeface="宋体"/>
              </a:rPr>
              <a:t>人大天太</a:t>
            </a:r>
            <a:endParaRPr b="0" lang="en-US" sz="4000" spc="-1" strike="noStrike">
              <a:solidFill>
                <a:srgbClr val="ffffff"/>
              </a:solidFill>
              <a:latin typeface="Calibri"/>
            </a:endParaRPr>
          </a:p>
        </p:txBody>
      </p:sp>
      <p:sp>
        <p:nvSpPr>
          <p:cNvPr id="5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宋体"/>
              </a:rPr>
              <a:t>Vocabulary from those characters:</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人</a:t>
            </a:r>
            <a:r>
              <a:rPr b="0" lang="en-US" sz="2000" spc="-1" strike="noStrike">
                <a:solidFill>
                  <a:srgbClr val="ffffff"/>
                </a:solidFill>
                <a:latin typeface="Calibri"/>
                <a:ea typeface="宋体"/>
              </a:rPr>
              <a:t>=adult</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太大</a:t>
            </a:r>
            <a:r>
              <a:rPr b="0" lang="en-US" sz="2000" spc="-1" strike="noStrike">
                <a:solidFill>
                  <a:srgbClr val="ffffff"/>
                </a:solidFill>
                <a:latin typeface="Calibri"/>
                <a:ea typeface="宋体"/>
              </a:rPr>
              <a:t>=too big</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天</a:t>
            </a:r>
            <a:r>
              <a:rPr b="0" lang="en-US" sz="2000" spc="-1" strike="noStrike">
                <a:solidFill>
                  <a:srgbClr val="ffffff"/>
                </a:solidFill>
                <a:latin typeface="Calibri"/>
                <a:ea typeface="宋体"/>
              </a:rPr>
              <a:t>=big sk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天天</a:t>
            </a:r>
            <a:r>
              <a:rPr b="0" lang="en-US" sz="2000" spc="-1" strike="noStrike">
                <a:solidFill>
                  <a:srgbClr val="ffffff"/>
                </a:solidFill>
                <a:latin typeface="Calibri"/>
                <a:ea typeface="宋体"/>
              </a:rPr>
              <a:t>=everyda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人人</a:t>
            </a:r>
            <a:r>
              <a:rPr b="0" lang="en-US" sz="2000" spc="-1" strike="noStrike">
                <a:solidFill>
                  <a:srgbClr val="ffffff"/>
                </a:solidFill>
                <a:latin typeface="Calibri"/>
                <a:ea typeface="宋体"/>
              </a:rPr>
              <a:t>=peop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re are the characters in this lesson that you have not learned yet.  Don’t worry about learning them, just listen to the audio and look at the pictures to understand the story.  </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在</a:t>
            </a:r>
            <a:r>
              <a:rPr b="0" lang="en-US" sz="2000" spc="-1" strike="noStrike">
                <a:solidFill>
                  <a:srgbClr val="ffffff"/>
                </a:solidFill>
                <a:latin typeface="Calibri"/>
                <a:ea typeface="宋体"/>
              </a:rPr>
              <a:t>=at or on</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下</a:t>
            </a:r>
            <a:r>
              <a:rPr b="0" lang="en-US" sz="2000" spc="-1" strike="noStrike">
                <a:solidFill>
                  <a:srgbClr val="ffffff"/>
                </a:solidFill>
                <a:latin typeface="Calibri"/>
                <a:ea typeface="宋体"/>
              </a:rPr>
              <a:t>=under</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叫</a:t>
            </a:r>
            <a:r>
              <a:rPr b="0" lang="en-US" sz="2000" spc="-1" strike="noStrike">
                <a:solidFill>
                  <a:srgbClr val="ffffff"/>
                </a:solidFill>
                <a:latin typeface="Calibri"/>
                <a:ea typeface="宋体"/>
              </a:rPr>
              <a:t>=call (as in I am </a:t>
            </a:r>
            <a:r>
              <a:rPr b="1" lang="en-US" sz="2000" spc="-1" strike="noStrike" u="sng">
                <a:solidFill>
                  <a:srgbClr val="ffffff"/>
                </a:solidFill>
                <a:uFillTx/>
                <a:latin typeface="Calibri"/>
                <a:ea typeface="宋体"/>
              </a:rPr>
              <a:t>called</a:t>
            </a:r>
            <a:r>
              <a:rPr b="0" lang="en-US" sz="2000" spc="-1" strike="noStrike">
                <a:solidFill>
                  <a:srgbClr val="ffffff"/>
                </a:solidFill>
                <a:latin typeface="Calibri"/>
                <a:ea typeface="宋体"/>
              </a:rPr>
              <a:t> Lisa)</a:t>
            </a:r>
            <a:endParaRPr b="0" lang="en-US" sz="2000" spc="-1" strike="noStrike">
              <a:solidFill>
                <a:srgbClr val="ffffff"/>
              </a:solidFill>
              <a:latin typeface="Calibri"/>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吗</a:t>
            </a:r>
            <a:r>
              <a:rPr b="0" lang="en-US" sz="2000" spc="-1" strike="noStrike">
                <a:solidFill>
                  <a:srgbClr val="ffffff"/>
                </a:solidFill>
                <a:latin typeface="Calibri"/>
                <a:ea typeface="宋体"/>
              </a:rPr>
              <a:t>=</a:t>
            </a:r>
            <a:r>
              <a:rPr b="0" lang="en-US" sz="1600" spc="-1" strike="noStrike">
                <a:solidFill>
                  <a:srgbClr val="ffffff"/>
                </a:solidFill>
                <a:latin typeface="Calibri"/>
                <a:ea typeface="宋体"/>
              </a:rPr>
              <a:t>question marker—this character can be put at the end of a sentence to make the sentence into a question.</a:t>
            </a:r>
            <a:endParaRPr b="0" lang="en-US" sz="16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不可能</a:t>
            </a:r>
            <a:r>
              <a:rPr b="0" lang="en-US" sz="2000" spc="-1" strike="noStrike">
                <a:solidFill>
                  <a:srgbClr val="ffffff"/>
                </a:solidFill>
                <a:latin typeface="Calibri"/>
                <a:ea typeface="宋体"/>
              </a:rPr>
              <a:t>=impossible, not probab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501" name="Recorded Sound" descr=""/>
          <p:cNvPicPr/>
          <p:nvPr/>
        </p:nvPicPr>
        <p:blipFill>
          <a:blip r:embed="rId1"/>
          <a:stretch/>
        </p:blipFill>
        <p:spPr>
          <a:xfrm>
            <a:off x="-914400" y="4114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8160" fill="hold"/>
                                        <p:tgtEl>
                                          <p:spTgt spid="5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Calibri"/>
            </a:endParaRPr>
          </a:p>
        </p:txBody>
      </p:sp>
      <p:sp>
        <p:nvSpPr>
          <p:cNvPr id="532" name=""/>
          <p:cNvSpPr txBox="1"/>
          <p:nvPr/>
        </p:nvSpPr>
        <p:spPr>
          <a:xfrm>
            <a:off x="1218960" y="6080040"/>
            <a:ext cx="7467480" cy="46080"/>
          </a:xfrm>
          <a:prstGeom prst="rect">
            <a:avLst/>
          </a:prstGeom>
          <a:noFill/>
          <a:ln w="0">
            <a:noFill/>
          </a:ln>
        </p:spPr>
        <p:txBody>
          <a:bodyPr tIns="360" bIns="36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人</a:t>
            </a:r>
            <a:endParaRPr b="0" lang="en-US" sz="4400" spc="-1" strike="noStrike">
              <a:solidFill>
                <a:srgbClr val="ffffff"/>
              </a:solidFill>
              <a:latin typeface="Calibri"/>
            </a:endParaRPr>
          </a:p>
        </p:txBody>
      </p:sp>
      <p:sp>
        <p:nvSpPr>
          <p:cNvPr id="5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04" name="Picture 2" descr=""/>
          <p:cNvPicPr/>
          <p:nvPr/>
        </p:nvPicPr>
        <p:blipFill>
          <a:blip r:embed="rId1"/>
          <a:stretch/>
        </p:blipFill>
        <p:spPr>
          <a:xfrm>
            <a:off x="3809880" y="2362320"/>
            <a:ext cx="1952640" cy="2914560"/>
          </a:xfrm>
          <a:prstGeom prst="rect">
            <a:avLst/>
          </a:prstGeom>
          <a:ln w="0">
            <a:noFill/>
          </a:ln>
        </p:spPr>
      </p:pic>
      <p:pic>
        <p:nvPicPr>
          <p:cNvPr id="505" name="Recorded Sound" descr=""/>
          <p:cNvPicPr/>
          <p:nvPr/>
        </p:nvPicPr>
        <p:blipFill>
          <a:blip r:embed="rId2"/>
          <a:stretch/>
        </p:blipFill>
        <p:spPr>
          <a:xfrm>
            <a:off x="-609480" y="3200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051" fill="hold"/>
                                        <p:tgtEl>
                                          <p:spTgt spid="5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endParaRPr b="0" lang="en-US" sz="4400" spc="-1" strike="noStrike">
              <a:solidFill>
                <a:srgbClr val="ffffff"/>
              </a:solidFill>
              <a:latin typeface="Calibri"/>
            </a:endParaRPr>
          </a:p>
        </p:txBody>
      </p:sp>
      <p:pic>
        <p:nvPicPr>
          <p:cNvPr id="507" name="Picture 2" descr=""/>
          <p:cNvPicPr/>
          <p:nvPr/>
        </p:nvPicPr>
        <p:blipFill>
          <a:blip r:embed="rId1"/>
          <a:stretch/>
        </p:blipFill>
        <p:spPr>
          <a:xfrm>
            <a:off x="3505320" y="2133720"/>
            <a:ext cx="1952640" cy="2914560"/>
          </a:xfrm>
          <a:prstGeom prst="rect">
            <a:avLst/>
          </a:prstGeom>
          <a:ln w="0">
            <a:noFill/>
          </a:ln>
        </p:spPr>
      </p:pic>
      <p:pic>
        <p:nvPicPr>
          <p:cNvPr id="508" name="Recorded Sound" descr=""/>
          <p:cNvPicPr/>
          <p:nvPr/>
        </p:nvPicPr>
        <p:blipFill>
          <a:blip r:embed="rId2"/>
          <a:stretch/>
        </p:blipFill>
        <p:spPr>
          <a:xfrm>
            <a:off x="-114300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01" fill="hold"/>
                                        <p:tgtEl>
                                          <p:spTgt spid="5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太大</a:t>
            </a:r>
            <a:endParaRPr b="0" lang="en-US" sz="4400" spc="-1" strike="noStrike">
              <a:solidFill>
                <a:srgbClr val="ffffff"/>
              </a:solidFill>
              <a:latin typeface="Calibri"/>
            </a:endParaRPr>
          </a:p>
        </p:txBody>
      </p:sp>
      <p:pic>
        <p:nvPicPr>
          <p:cNvPr id="510" name="" descr=""/>
          <p:cNvPicPr/>
          <p:nvPr/>
        </p:nvPicPr>
        <p:blipFill>
          <a:blip r:embed="rId1"/>
          <a:stretch/>
        </p:blipFill>
        <p:spPr>
          <a:xfrm>
            <a:off x="457200" y="1600200"/>
            <a:ext cx="8229600" cy="4525920"/>
          </a:xfrm>
          <a:prstGeom prst="rect">
            <a:avLst/>
          </a:prstGeom>
          <a:ln w="0">
            <a:noFill/>
          </a:ln>
        </p:spPr>
      </p:pic>
      <p:pic>
        <p:nvPicPr>
          <p:cNvPr id="511" name="Picture 2" descr="C:\Documents and Settings\Owner\Local Settings\Temporary Internet Files\Content.IE5\8QQV33VN\MCBD05514_0000[1].wmf"/>
          <p:cNvPicPr/>
          <p:nvPr/>
        </p:nvPicPr>
        <p:blipFill>
          <a:blip r:embed="rId2"/>
          <a:stretch/>
        </p:blipFill>
        <p:spPr>
          <a:xfrm>
            <a:off x="2438280" y="2362320"/>
            <a:ext cx="4284720" cy="3919320"/>
          </a:xfrm>
          <a:prstGeom prst="rect">
            <a:avLst/>
          </a:prstGeom>
          <a:ln w="0">
            <a:noFill/>
          </a:ln>
        </p:spPr>
      </p:pic>
      <p:pic>
        <p:nvPicPr>
          <p:cNvPr id="512" name="Recorded Sound" descr=""/>
          <p:cNvPicPr/>
          <p:nvPr/>
        </p:nvPicPr>
        <p:blipFill>
          <a:blip r:embed="rId3"/>
          <a:stretch/>
        </p:blipFill>
        <p:spPr>
          <a:xfrm>
            <a:off x="-76212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650" fill="hold"/>
                                        <p:tgtEl>
                                          <p:spTgt spid="5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天</a:t>
            </a:r>
            <a:endParaRPr b="0" lang="en-US" sz="4400" spc="-1" strike="noStrike">
              <a:solidFill>
                <a:srgbClr val="ffffff"/>
              </a:solidFill>
              <a:latin typeface="Calibri"/>
            </a:endParaRPr>
          </a:p>
        </p:txBody>
      </p:sp>
      <p:pic>
        <p:nvPicPr>
          <p:cNvPr id="514" name="Picture 2" descr="C:\Users\mark\Pictures\2008-08-08 click art\HPI\Disk5\1000616683.jpg"/>
          <p:cNvPicPr/>
          <p:nvPr/>
        </p:nvPicPr>
        <p:blipFill>
          <a:blip r:embed="rId1"/>
          <a:stretch/>
        </p:blipFill>
        <p:spPr>
          <a:xfrm>
            <a:off x="2133720" y="2057400"/>
            <a:ext cx="4790880" cy="3200400"/>
          </a:xfrm>
          <a:prstGeom prst="rect">
            <a:avLst/>
          </a:prstGeom>
          <a:ln w="0">
            <a:noFill/>
          </a:ln>
        </p:spPr>
      </p:pic>
      <p:pic>
        <p:nvPicPr>
          <p:cNvPr id="515" name="Recorded Sound" descr=""/>
          <p:cNvPicPr/>
          <p:nvPr/>
        </p:nvPicPr>
        <p:blipFill>
          <a:blip r:embed="rId2"/>
          <a:stretch/>
        </p:blipFill>
        <p:spPr>
          <a:xfrm>
            <a:off x="-6858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600" fill="hold"/>
                                        <p:tgtEl>
                                          <p:spTgt spid="5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6"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天太大</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518" name="Recorded Sound" descr=""/>
          <p:cNvPicPr/>
          <p:nvPr/>
        </p:nvPicPr>
        <p:blipFill>
          <a:blip r:embed="rId2"/>
          <a:stretch/>
        </p:blipFill>
        <p:spPr>
          <a:xfrm>
            <a:off x="-1219320" y="3962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901" fill="hold"/>
                                        <p:tgtEl>
                                          <p:spTgt spid="5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9"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r>
              <a:rPr b="0" lang="zh-CN" sz="4400" spc="-1" strike="noStrike">
                <a:solidFill>
                  <a:srgbClr val="ff0000"/>
                </a:solidFill>
                <a:latin typeface="Calibri"/>
                <a:ea typeface="宋体"/>
              </a:rPr>
              <a:t>在</a:t>
            </a:r>
            <a:r>
              <a:rPr b="0" lang="zh-CN" sz="4400" spc="-1" strike="noStrike">
                <a:solidFill>
                  <a:srgbClr val="ffffff"/>
                </a:solidFill>
                <a:latin typeface="Calibri"/>
                <a:ea typeface="宋体"/>
              </a:rPr>
              <a:t>大天</a:t>
            </a:r>
            <a:r>
              <a:rPr b="0" lang="zh-CN" sz="4400" spc="-1" strike="noStrike">
                <a:solidFill>
                  <a:srgbClr val="ff0000"/>
                </a:solidFill>
                <a:latin typeface="Calibri"/>
                <a:ea typeface="宋体"/>
              </a:rPr>
              <a:t>下</a:t>
            </a:r>
            <a:br>
              <a:rPr sz="4400"/>
            </a:br>
            <a:endParaRPr b="0" lang="en-US" sz="4400" spc="-1" strike="noStrike">
              <a:solidFill>
                <a:srgbClr val="ffffff"/>
              </a:solidFill>
              <a:latin typeface="Calibri"/>
            </a:endParaRPr>
          </a:p>
        </p:txBody>
      </p:sp>
      <p:pic>
        <p:nvPicPr>
          <p:cNvPr id="521" name="Picture 2" descr="C:\Documents and Settings\Owner\Local Settings\Temporary Internet Files\Content.IE5\8QQV33VN\MCBD05514_0000[1].wmf"/>
          <p:cNvPicPr/>
          <p:nvPr/>
        </p:nvPicPr>
        <p:blipFill>
          <a:blip r:embed="rId2"/>
          <a:stretch/>
        </p:blipFill>
        <p:spPr>
          <a:xfrm>
            <a:off x="2971800" y="4038480"/>
            <a:ext cx="2913120" cy="2665440"/>
          </a:xfrm>
          <a:prstGeom prst="rect">
            <a:avLst/>
          </a:prstGeom>
          <a:ln w="0">
            <a:noFill/>
          </a:ln>
        </p:spPr>
      </p:pic>
      <p:pic>
        <p:nvPicPr>
          <p:cNvPr id="522" name="Recorded Sound" descr=""/>
          <p:cNvPicPr/>
          <p:nvPr/>
        </p:nvPicPr>
        <p:blipFill>
          <a:blip r:embed="rId3"/>
          <a:stretch/>
        </p:blipFill>
        <p:spPr>
          <a:xfrm>
            <a:off x="-838080" y="3124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501" fill="hold"/>
                                        <p:tgtEl>
                                          <p:spTgt spid="5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大人</a:t>
            </a:r>
            <a:r>
              <a:rPr b="0" lang="zh-CN" sz="4000" spc="-1" strike="noStrike">
                <a:solidFill>
                  <a:srgbClr val="ff0000"/>
                </a:solidFill>
                <a:latin typeface="Calibri"/>
                <a:ea typeface="宋体"/>
              </a:rPr>
              <a:t>叫</a:t>
            </a:r>
            <a:r>
              <a:rPr b="0" lang="en-US" sz="4000" spc="-1" strike="noStrike">
                <a:solidFill>
                  <a:srgbClr val="ffffff"/>
                </a:solidFill>
                <a:latin typeface="Calibri"/>
                <a:ea typeface="宋体"/>
              </a:rPr>
              <a:t>Yaoming </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524" name="Picture 2" descr="C:\Documents and Settings\Owner\Local Settings\Temporary Internet Files\Content.IE5\8QQV33VN\MCBD05514_0000[1].wmf"/>
          <p:cNvPicPr/>
          <p:nvPr/>
        </p:nvPicPr>
        <p:blipFill>
          <a:blip r:embed="rId1"/>
          <a:stretch/>
        </p:blipFill>
        <p:spPr>
          <a:xfrm>
            <a:off x="2428920" y="2154240"/>
            <a:ext cx="4286160" cy="3417840"/>
          </a:xfrm>
          <a:prstGeom prst="rect">
            <a:avLst/>
          </a:prstGeom>
          <a:ln w="0">
            <a:noFill/>
          </a:ln>
        </p:spPr>
      </p:pic>
      <p:pic>
        <p:nvPicPr>
          <p:cNvPr id="525" name="Recorded Sound" descr=""/>
          <p:cNvPicPr/>
          <p:nvPr/>
        </p:nvPicPr>
        <p:blipFill>
          <a:blip r:embed="rId2"/>
          <a:stretch/>
        </p:blipFill>
        <p:spPr>
          <a:xfrm>
            <a:off x="-1295280" y="3886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750" fill="hold"/>
                                        <p:tgtEl>
                                          <p:spTgt spid="5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alibri"/>
                <a:ea typeface="宋体"/>
              </a:rPr>
              <a:t>不可能</a:t>
            </a:r>
            <a:br>
              <a:rPr sz="4000"/>
            </a:br>
            <a:endParaRPr b="0" lang="en-US" sz="4000" spc="-1" strike="noStrike">
              <a:solidFill>
                <a:srgbClr val="ffffff"/>
              </a:solidFill>
              <a:latin typeface="Calibri"/>
            </a:endParaRPr>
          </a:p>
        </p:txBody>
      </p:sp>
      <p:pic>
        <p:nvPicPr>
          <p:cNvPr id="527" name="Picture 4" descr="http://smith.mn/nbashort/tall-yaoming.jpg"/>
          <p:cNvPicPr/>
          <p:nvPr/>
        </p:nvPicPr>
        <p:blipFill>
          <a:blip r:embed="rId1"/>
          <a:stretch/>
        </p:blipFill>
        <p:spPr>
          <a:xfrm>
            <a:off x="3276720" y="1676520"/>
            <a:ext cx="2619360" cy="3809880"/>
          </a:xfrm>
          <a:prstGeom prst="rect">
            <a:avLst/>
          </a:prstGeom>
          <a:ln w="0">
            <a:noFill/>
          </a:ln>
        </p:spPr>
      </p:pic>
      <p:pic>
        <p:nvPicPr>
          <p:cNvPr id="528" name="Content Placeholder 5" descr=""/>
          <p:cNvPicPr/>
          <p:nvPr/>
        </p:nvPicPr>
        <p:blipFill>
          <a:blip r:embed="rId2"/>
          <a:stretch/>
        </p:blipFill>
        <p:spPr>
          <a:xfrm>
            <a:off x="450720" y="1596960"/>
            <a:ext cx="8242560" cy="4864320"/>
          </a:xfrm>
          <a:prstGeom prst="rect">
            <a:avLst/>
          </a:prstGeom>
          <a:ln w="0">
            <a:noFill/>
          </a:ln>
        </p:spPr>
      </p:pic>
      <p:pic>
        <p:nvPicPr>
          <p:cNvPr id="529" name="Picture 2" descr=""/>
          <p:cNvPicPr/>
          <p:nvPr/>
        </p:nvPicPr>
        <p:blipFill>
          <a:blip r:embed="rId3"/>
          <a:stretch/>
        </p:blipFill>
        <p:spPr>
          <a:xfrm>
            <a:off x="4495680" y="2666880"/>
            <a:ext cx="1390680" cy="2819520"/>
          </a:xfrm>
          <a:prstGeom prst="rect">
            <a:avLst/>
          </a:prstGeom>
          <a:ln w="0">
            <a:noFill/>
          </a:ln>
        </p:spPr>
      </p:pic>
      <p:pic>
        <p:nvPicPr>
          <p:cNvPr id="530" name="Recorded Sound" descr=""/>
          <p:cNvPicPr/>
          <p:nvPr/>
        </p:nvPicPr>
        <p:blipFill>
          <a:blip r:embed="rId4"/>
          <a:stretch/>
        </p:blipFill>
        <p:spPr>
          <a:xfrm>
            <a:off x="-76212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000"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4:21:06Z</dcterms:created>
  <dc:creator>Mark Sabey</dc:creator>
  <dc:description/>
  <dc:language>en-US</dc:language>
  <cp:lastModifiedBy>itsuser</cp:lastModifiedBy>
  <dcterms:modified xsi:type="dcterms:W3CDTF">2009-04-16T20:06:23Z</dcterms:modified>
  <cp:revision>17</cp:revision>
  <dc:subject/>
  <dc:title>人</dc:title>
</cp:coreProperties>
</file>